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6D25FE-6F05-4823-A00A-DEB2027EA5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04914F6-A79E-4869-BA14-74A43B9F7C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AA78CF-3416-4914-BE12-FD5DC1279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610-3CF7-46D5-8813-489E4CE8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F5E-AD06-4D2D-9096-52D54D31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E92-FDCC-4720-905E-302D2D15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9076-DECD-41F8-BFD0-087A8C18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249-63F8-4DB7-A53C-69D7070F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BB7-2367-4D81-90A1-2B4620CC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FB5-5865-48AE-83B3-160A731A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CBD-CCFC-476C-A462-AF3BCCE4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E09-123C-4280-9C31-9540EE84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E5A-51D6-499F-B5CE-BD1C763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593-A59F-437A-BDD0-1AEE4D7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08F-8146-4E08-8390-0D174FA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E90324-07FC-431B-BECD-4287C481393B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1448DB-4137-4F76-B8C1-F055B5593094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honics (words with k and c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tegorize your spelling words or find words from the text that have the k and ck sou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x.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e  si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Vocabulary: (Exact Wor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Rewrite each sentence using action verbs. (ex. The ca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went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up the tree.  The ca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climbed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up the tre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 wago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went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along the dusty road.  The firema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said,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” get the fire hose.”  Use the following action verbs to write your own sentences.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the exact verb.  leap, crawl, swoop,  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tomp, wiggle   Initials: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ocabulary (Antonyms) Write antonyms for the following wor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wet, strong, dark, warm, high, below, so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rite a sentence for each one.  Then come up with 4 pairs of your own antonyms and write them in a sentence.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fable.  Include the name of animal character/characters.  Make sure that your animal character/characters act and talk like a person, teach a lesson and ends with a moral that sums up the lesson.  Be creative and have fun writing your f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Focus on Genre: Fables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4:28:13Z</dcterms:created>
  <dc:creator> </dc:creator>
  <dc:description/>
  <dc:language>en-US</dc:language>
  <cp:lastModifiedBy> </cp:lastModifiedBy>
  <cp:lastPrinted>2009-11-16T16:36:52Z</cp:lastPrinted>
  <dcterms:modified xsi:type="dcterms:W3CDTF">2010-08-11T00:53:01Z</dcterms:modified>
  <cp:revision>23</cp:revision>
  <dc:subject/>
  <dc:title>Slide 1</dc:title>
</cp:coreProperties>
</file>